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4545-28C8-445C-A7DE-80FCB7CB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8C6D-668E-47C5-B8EE-6CDCC0A7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270-5024-4AFB-88C5-FDD0212F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43B2-14A4-4BBC-906C-97F50062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E1A-2B80-491B-98FC-89320697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762-A39A-466F-8E95-4D6CD9E0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114-F880-4E02-9D21-04E865D2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70E-D638-45B1-B8BA-CFE84F6E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DA0-9EC0-4D73-B215-07315869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4B78-0F3D-4CFF-8062-C6B4B0C3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149-EBC8-4EB7-8995-FF6A2FA7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036-58AC-4B19-827F-C960D424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54E0-32B7-4F1A-865A-D252B1B474DD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197A-7D6F-4E5D-9507-141EA265B8B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560" y="1341000"/>
            <a:ext cx="88534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Ministero dell’Istruzione, dell’Università e della Ricerca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Ufficio Scolastico Regionale per la Basilicata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Piazza delle Regioni - 85100 Potenz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760" y="2707920"/>
            <a:ext cx="86439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 u="sng">
                <a:solidFill>
                  <a:srgbClr val="000000"/>
                </a:solidFill>
                <a:uFillTx/>
                <a:latin typeface="Calibri"/>
              </a:rPr>
              <a:t>Periodo di prova e formazione dei Docenti neoassun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it-IT" sz="3000" spc="-1" strike="noStrike" u="sng">
                <a:solidFill>
                  <a:srgbClr val="000000"/>
                </a:solidFill>
                <a:uFillTx/>
                <a:latin typeface="Calibri"/>
              </a:rPr>
              <a:t>a.s. 2019/2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 u="sng">
                <a:solidFill>
                  <a:srgbClr val="000000"/>
                </a:solidFill>
                <a:uFillTx/>
                <a:latin typeface="Calibri"/>
              </a:rPr>
              <a:t>Polico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Calibri"/>
              </a:rPr>
              <a:t>19/02/20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 u="sng">
                <a:solidFill>
                  <a:srgbClr val="000000"/>
                </a:solidFill>
                <a:uFillTx/>
                <a:latin typeface="Calibri"/>
              </a:rPr>
              <a:t>PIANO DELLE ATTIVITÀ PROGRAMMAT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Verdana"/>
              </a:rPr>
              <a:t>Dirigente Scolastico Rosaria Cancelli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magine 1" descr=""/>
          <p:cNvPicPr/>
          <p:nvPr/>
        </p:nvPicPr>
        <p:blipFill>
          <a:blip r:embed="rId1"/>
          <a:stretch/>
        </p:blipFill>
        <p:spPr>
          <a:xfrm>
            <a:off x="4067280" y="189000"/>
            <a:ext cx="1003320" cy="979560"/>
          </a:xfrm>
          <a:prstGeom prst="rect">
            <a:avLst/>
          </a:prstGeom>
          <a:ln w="0">
            <a:noFill/>
          </a:ln>
        </p:spPr>
      </p:pic>
      <p:sp>
        <p:nvSpPr>
          <p:cNvPr id="44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A258-A0D6-4E74-975E-5FA47586C4B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CasellaDiTesto 1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Il superamento del periodo di formazione e prova è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ubordinato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 allo svolgimento del servizio effettivamente prestato per almeno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entottanta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 giorni nel corso dell’anno scolastico, di cui almeno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entovent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 per le attività didattich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ono computabili nei centottanta giorn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tutte le attività connesse al servizio scolastico, ivi compresi i periodi di sospensione delle lezioni e delle attività didattiche, gli esami e gli scrutini ed ogni altro impegno di servizio, ad esclusione dei giorni di congedo ordinario e straordinario e di aspettativa a qualunque titolo fruiti. Va computato anche il primo mese del periodo di astensione obbligatoria dal servizio per gravidan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ono compresi nei centoventi giorni di attività didattich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sia i giorni effettivi di insegnamento sia i giorni impiegati presso la sede di servizio per ogni altra attività preordinata al migliore svolgimento dell’azione didattica, ivi comprese quelle valutative, progettuali, formative e collegi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954A-74D1-4922-A58B-DADFE71AC96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CasellaDiTesto 2"/>
          <p:cNvSpPr/>
          <p:nvPr/>
        </p:nvSpPr>
        <p:spPr>
          <a:xfrm>
            <a:off x="0" y="880920"/>
            <a:ext cx="91440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IANIFICAZIONE DELLE ATTIVITA’ PER I DOCENTI NEOASSU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1)Il D.S. individua e nomina il Tutor, sentito il parere del collegio dei docenti: stessa classe di concorso  o possesso della abilitazione, in caso di impossibilità si procede per classe affine o per area disciplinare. Di norma un docente non può tutorare più di tre neoassun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Calibri"/>
                <a:ea typeface="Arial"/>
              </a:rPr>
              <a:t>Il docente tutor accoglie il neo-assunto nella comunità professionale, favorisce la sua partecipazione ai diversi momenti della vita collegiale della scuola ed esercita ogni utile forma di ascolto, consulenza e collaborazione per migliorare la qualità e l’efficacia dell’insegnamento. La funzione di tutor si esplica altresì nella predisposizione di momenti di reciproca osservazione in classe . La collaborazione può esplicarsi anche nella elaborazione, sperimentazione, validazione di risorse didattiche e unità di apprendimen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Arial"/>
              </a:rPr>
              <a:t>2)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Informazione del Dirigente scolastico ai neoassunti su: obblighi di servizio e professionali connessi al periodo di prova, modalità d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9AA9-4A19-4188-8F8D-B4EF35102DD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1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svolgimento e di conclusione del percorso con particolare riguardo a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nuove funzioni attribuite ai tu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3)Il docente neoassunto, assistito dal Tutor, traccia il bilancio delle proprie competenze inizi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4) Il D.S. e  il Docente neoassunto sottoscrivono il «patto per lo sviluppo professionale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5) Incontro propedeutico per la presentazione delle caratteristiche 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percorso forma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6) Formazione on line su Piattaforma Indire: in attesa dell’apertura, al momento è disponibile solo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il modello di bilancio iniziale delle competenze professional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 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7) Predisposizione e trasmissione delle linee guida sull'organizzazione del Peer to Peer e del portfolio del docente (MIUR / Indire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8) Peer to peer ( Docente neoassunto/ Tut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9) Laboratori formativi e/o visiting(Docenti neoassunti/Formator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10) Bilancio finale delle competenze professionali (d.n. /Tut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11)Incontro di restituzione fin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12) Valutazione del Docente neoassunto ( Comitato  di Valutazion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2326-E753-4591-9E2A-40408E877B9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asellaDiTesto 1"/>
          <p:cNvSpPr/>
          <p:nvPr/>
        </p:nvSpPr>
        <p:spPr>
          <a:xfrm>
            <a:off x="0" y="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PERCORSO FORMATIVO PER I DOCENTI NEOASSU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ase 1: Bilancio iniziale delle competen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Il docente neoassunto traccia un bilancio delle competenze in forma di autovalutazione che confluisce nel patto per lo sviluppo professionale allo scopo di delineare i punti da potenziare ed elaborare un progetto di formazione per lo sviluppo professionale del docente (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3 h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4AF4-A20E-412F-B3A5-31B5B604E74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asellaDiTesto 1"/>
          <p:cNvSpPr/>
          <p:nvPr/>
        </p:nvSpPr>
        <p:spPr>
          <a:xfrm>
            <a:off x="0" y="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ase 2:  Incontro propedeut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L’amministrazione territoriale organizza un incontro formativo con i neoassunti docenti allo scopo di illustrare le modalità generali del percorso di formazione, il profilo professionale atteso, le innovazioni in atto nella scuola. (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3 h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ase 3: Laboratori formativi e/o visite in scuole innovative (visit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Il docente neoassunto, sulla base del bilancio delle competenze e del patto per lo sviluppo professionale, partecipa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obbligatoriament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a 4 laboratori della durata di 3 ore ciascuno, con la possibilità di optare tra le diverse proposte offerte a livello territoriale . I laboratori possono essere sostituiti con il visiting . Tale attività può avere la durata massima di due giornate di full immersion con durata max di 6 h al giorn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Obiettivo: Potenziare le competenze trasversali e approfondire conoscenze specifiche, del docente, stimolare la condivisione di esperienze e la soluzione di problemi reali del contesto scuola. (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12 h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ase 4: Peer to pe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Questa fase è articolata, di massima, in diversi momenti: 3 ore di progettazione condivisa, 4 ore di osservazione del neoassunto nella classe del tutor, 4 ore di osservazione del tutor nella classe del neoassunto, 1 ora di verifica dell’esperienza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5249-F2CD-4E87-B3AB-78D72551D6A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asellaDiTesto 1"/>
          <p:cNvSpPr/>
          <p:nvPr/>
        </p:nvSpPr>
        <p:spPr>
          <a:xfrm>
            <a:off x="-8244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Obiettivo:  Sviluppare competenze sulla conduzione della classe e sulle attività d’insegnamento, sul sostegno alla motivazione degli allievi, sulla costruzione di climi positivi e motivanti e sulle modalità di verifica formativa degli apprendimenti. (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12 h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ase 5: Formazione on-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La formazione on-line accompagna tutto il percorso dei neoassunti, consente al docente  di : elaborare un proprio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portfolio professional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rispondere a questionari per il monitoraggio delle diverse fasi del percorso formativo; consultare materiali di studio, risorse didattiche e siti web dedica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Obiettivo: Stimolare l’analisi e la riflessione sul percorso formativo del docente neoassunto al fine di migliorare la sua capacità di progettazione, di realizzazione e di valutazione delle attività didattich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14 h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Il portfolio professionale, in formato digitale, dovrà contene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a. uno spazio per la descrizione del proprio curriculum professional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b. l’elaborazione di un bilancio di competenze, all’inizio del percorso formativ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7B8C-5895-4F23-865F-092CCE53041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sellaDiTesto 2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c. la documentazione di fasi significative della progettazione didattic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delle attività didattiche svolte, delle azioni di verifica intrapres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d. la realizzazione di un bilancio conclusivo e la previsione di un piano di sviluppo profession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ase 6: Bilancio delle competenze fin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Il docente neoassunto traccia un bilancio delle proprie competenze raggiunte in forma di autovalutazione allo scopo di  delineare i miglioramenti raggiunti e i punti che restano da potenziare  (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3 h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ase 7: Incontro di restituzione fin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L’amministrazione territoriale organizza un incontro sul percorso di formazione con i neoassunti docenti allo scopo di Valutare complessivamente l’attività formativa e raccogliere feedback (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3 h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TOTALE = 50 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GRAZIE PER L’ ATTEN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8495-1973-44FD-9596-C355E220E6A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4:45:12Z</dcterms:created>
  <dc:creator>Nicola Caputo</dc:creator>
  <dc:description/>
  <dc:language>en-US</dc:language>
  <cp:lastModifiedBy>Administrator</cp:lastModifiedBy>
  <dcterms:modified xsi:type="dcterms:W3CDTF">2020-03-09T16:07:47Z</dcterms:modified>
  <cp:revision>50</cp:revision>
  <dc:subject/>
  <dc:title>Ministero dell’Istruzione, dell’Università e della Ricerca Ufficio Scolastico Regionale per la Basilicata Piazza delle Regioni - 85100 Potenza</dc:title>
</cp:coreProperties>
</file>